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A4F-F3E4-4B8B-A4F2-79C0D2B9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6B3-5AF2-4F8B-B201-6F78AAD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4A8-12F2-4B4E-A824-6DC825FE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19F-D3E3-45F3-83AA-67E8866E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1F7-3E88-4486-B5B9-6926DF53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7E3-E549-4E0E-AD65-BBA2A531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293-C62D-452D-AC34-D1CC07F6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EED-D14A-4C11-82CB-C67ACD9D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7E5-268D-482E-A799-97F4D4A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7C9-5475-4703-AAAF-B1E3E42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025-4AE1-4FA0-B2E0-D0B186C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5A2-F223-4635-8AFA-7ECF8AE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CA96-2468-463C-841E-FE6F5C4F7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add a custo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D Rental Use C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" y="1019160"/>
            <a:ext cx="83059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form to rent a DV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Pract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use case description for the use case “Search for a movi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a UI form for that us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for the use case “DVD retur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ki.ucalgary.ca/page/Courses/Computer_Science/CPSC_203/CPSC_203_Template/Labs_Template/Week_2_-_Lab_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to Design a Softwa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use case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use case 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etch the UI forms using the use case description and the ER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VD Rental Stor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ign a DVD rental system that has two main users: a clerk and an ad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lerk can add a customer, remove a customer, update the customer’s info, rent DVD, return DVD, view late returns, search for a specific movie, or search for a specific custom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Admin can add a new DVD, remove a DVD, modify DVD info, or analyze the current ren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28600" y="0"/>
            <a:ext cx="8655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61976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 Customer Use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386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9:23:21Z</dcterms:created>
  <dc:creator>Soha</dc:creator>
  <dc:description/>
  <dc:language>en-US</dc:language>
  <cp:lastModifiedBy>Soha</cp:lastModifiedBy>
  <dcterms:modified xsi:type="dcterms:W3CDTF">2009-04-09T09:34:29Z</dcterms:modified>
  <cp:revision>9</cp:revision>
  <dc:subject/>
  <dc:title>Design Skills</dc:title>
</cp:coreProperties>
</file>